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EA17-47C8-47CC-BAC7-6AF5107C1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2A19-1676-4772-9496-FC1C66548B4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2C1D-1D61-4228-9FAF-947A8CB4058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2169-7501-431B-A5C8-B4A9B84D573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9002-2ED3-4516-BD00-39E4B59C2C0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805F-2FFE-4F78-8646-29942CFDFAD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F7B-394A-4AAE-B164-9AD29003FE9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CEC9-BACB-4C72-920D-05102B88868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917F-6430-4A80-A538-F85F4E0DBAD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624B-3B04-49B6-9C2C-8E29C1FA746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0428-CF9A-49AF-AA52-0D7D3DAE4F3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4DE1-A7D5-4BC5-A3E1-4C1473DC711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4BEE-0565-4BEE-AB08-9F91256A510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5B82-46B6-43D0-9E06-15880EF3638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19BD-CA31-4D3A-864C-1DDC5DF4E5C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A2CF-4EFD-4092-BB28-FDCB9CD447E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E30-4B35-4346-AD37-7CC074BFBA6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F0BF-D3F4-42D2-B644-3651E9B1DCB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1D3D-6BCA-43BB-A374-2A7E9D4CEAC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C80E-B8F9-4676-B54B-2985CCB78E1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FD08-A0CD-4D4E-921C-68F61C96F12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461B-FF35-47DB-8137-A89BB44417A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5953-8F09-417F-B668-F74F2C89BFF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9A17-BCA9-474D-B8B6-50C31DD8F74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30C-0962-4ED4-BD2A-575EA1B3FA9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7AB0-AE02-4E3F-B240-EB4F7A05945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81BE-A219-4E26-92E3-8A183FB5690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70F4-1FB3-4A75-8CB4-EF2DB3B30AC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F4AC-B4A1-4F20-9811-CB6200E3CD4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1B37-A409-405B-B800-B66E9A2C0F8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D9D7-FF84-44D7-B582-25870A27B78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E33C-DE1D-43F1-A17E-1A881E351A8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926-1C88-4242-BD88-FCE821F8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DBE-7148-4D46-B92D-F3EC92FA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F97-B57B-496D-95F0-6AECB9AA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32D-5852-45C8-AB74-DD255FCA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6B64-B71D-4711-AC96-5862588F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1C38-18A9-4084-BD7E-3A3DA123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AC2A-8BC3-4433-80E3-9D841590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1DBA-4844-42F4-90EB-7AEAF14C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2A2A-1809-4E78-82F3-7673C3FD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934F-4DD3-438D-B49A-AEDE73F6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849F-9C75-4285-8000-550C1517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57E-2A8D-4C72-96E9-1C9DB49B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7416-FDBD-4653-8B14-1E608210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D9D9-683C-4240-9166-8201DF3A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F9ED-DE4C-4CDC-8752-BEF153D5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FBE7-2E60-491E-A6AF-518095EA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45C1-3DD2-4DAD-B260-C6E97A7D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984EC-2A29-4E81-AD1E-770C9AF9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BE03-86C3-4474-B2B1-63DDC02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E134-14BB-4B45-976F-9F2CA543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FC58-D153-4855-8871-7FD480D1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18D1-5662-4C9C-A004-54594100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EEF-4F81-48D3-AAA6-45C0678A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3CFD-E9C3-459A-B7F5-000D2D7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F673-F873-470D-8A8D-20B4DA40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9FBA-0460-4EAA-8427-1A1E757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D3C1-79EA-4F7D-9DD8-5E639BD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E120-2D28-456A-B65F-B1494600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E695-1781-47B8-90A7-49A81CC7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B2E0-8CAA-461D-AC8A-C988A42F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0B50-329F-4806-B5AB-2B9622F2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B14E0-A023-451E-8F8E-78EE6576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D24B-BC7B-4C1F-8ECF-DB4D4B52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81A-597F-41C5-A9AA-64249768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F824-DE2E-4EEA-84C6-4C713586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F2D4-0300-4FBE-B24F-EC88BDE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7927-27D2-44A0-9377-AB3234E3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CC36-C5E6-40B0-BDAD-4ACECEE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8275-E27D-4127-AF04-BBAAE09F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6AE1-A3FD-4974-B5A7-55DF9DDF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F362-4EF8-4DD0-A2DB-7C02B9DF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E082-1855-4158-B19C-005E6CF3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1BB3-B38C-4ADB-A182-970F1320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DEA7-5677-4291-97AA-DC8D6649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403-C8FC-43B9-B4FB-A9621C9B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7D33-0AEE-4129-AFF4-2140B1D7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D662-6C81-4348-8654-972D3E14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756BA-6842-4DAD-AD2E-A9B00CC0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8094-BF2A-48BB-AABE-3BAE26C0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E3B68-3B80-419D-9707-362D3AB4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50096-6026-4271-ABBC-02A6521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8B60A-8BB8-481A-888F-07B65566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A0ED-91E7-496E-95A4-58A96365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0BBE-CDA8-4AB5-9AC1-62088D39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8739-8282-4F7F-A7DE-7B7CBF4F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247-11B3-48B5-892E-A6C78914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23627-2CCE-4641-9D09-4F017079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8F3B-4193-49EF-A657-2C9FFDAC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C583A-C3DA-42CA-BBE4-4F5B465B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336E2-141E-4517-9B38-AC926013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2FD91-45C5-4A39-A0F3-D740A688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95EE0-9E0F-4FFE-A383-A169DFFC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CE06B-55F4-48B7-A8CF-F109A6B3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227F-77CF-4806-9463-2D5BAC9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7D68-EE32-4EF8-A056-B61D60D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1C5E-FC2D-4DEC-AE21-753087C6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265-0586-4BD8-A41E-1668E18F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6A06D-4C90-40C5-A207-6E726C2B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312CA-2834-49A0-9514-36072E63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F9E8A-59CC-471F-AB08-222303B4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E8C7F-5BEE-4C42-8810-9A7F19D4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2E167-0112-45DF-BD9D-F9919F72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68587-63D0-42FC-B94F-A8408317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66507-E5B9-4AAC-A0DD-41DDF749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0AE83-50EE-4393-9A48-584DAE35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7443E-7327-4C67-B260-124B586E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C169E-3F70-4F3F-B240-E8FC296B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279-1722-4AB4-80ED-12CB046A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B6A6-B9BD-447C-8A50-EDF56578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67A18-6285-402C-A915-1F8BA440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19A8A-19C9-4387-BA2C-2883CA55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FF106-95D1-441B-B7B0-E6A952D8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F45C7-C1E8-4941-8665-0898DFE8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C9C-E994-4622-B5D2-99204F23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7642-A145-4A9E-898A-2EA08450B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33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091520" y="198108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cff"/>
                </a:solidFill>
                <a:latin typeface="Calibri"/>
              </a:rPr>
              <a:t>Introduction t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39cb7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41320" y="2590920"/>
            <a:ext cx="56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9cb7"/>
                </a:solidFill>
                <a:latin typeface="Calibri"/>
              </a:rPr>
              <a:t>Information Retrieval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708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1913-8C57-415C-A920-ED180FF68A88}" type="slidenum">
              <a:rPr b="0" lang="en-US" sz="1200" spc="-1" strike="noStrike">
                <a:solidFill>
                  <a:srgbClr val="43708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27C6-6822-46A9-986F-832D29A96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61D6-C58D-4E48-B397-529AC0002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1C15-C48F-4934-8A39-E326B3A37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39C9-2892-48E4-A779-ABEC1A8C5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E4F6-7CDE-4101-9DDC-799C4F504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apted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  <a:ea typeface="Times New Roman"/>
              </a:rPr>
              <a:t>Christopher Manning and Prabhakar Ragha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</a:rPr>
              <a:t>Tolerant Retri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cument corr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pecially needed for OCR’ed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ction algorithms are tuned for this: rn/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use domain-specific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OCR can confuse O and D more often than it would confuse O and I (adjacent on the QWERTY keyboard, so more likely interchanged in typing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pages and even printed material has typ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: the dictionary contains fewer misspell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ry mis-spell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principal focu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the query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lanis Moris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ei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ieve documents indexed by the correct spelling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several suggested alternative queries with the correct sp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d you mean …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 premise – there is a lexicon from which the correct spellings 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basic choices for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andard lexicon such 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ster’s English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“industry-specific” lexicon – hand-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exicon of the indexed corp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all words on the w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names, acronyms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ncluding the mis-spellin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 lexicon and a character sequence Q, return the words in the lexicon closest to Q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“closest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wo string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minimum number of operations to convert one to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s are typically character-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Calibri"/>
              </a:rPr>
              <a:t>, (Transpos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he edit distance fro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o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Calibri"/>
              </a:rPr>
              <a:t>  (Just 1 with transpose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nerally found by dynamic progra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bove, but the weight of an operation depends on the character(s)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t to capture OCR or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smaller edit distance than by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weight matrix as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y dynamic programming to handle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edit dista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query, first enumerate all character sequences within a preset (weighted) edit distance (e.g.,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sect this set with list of “correct”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terms you found to user as sugg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lternative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 edit distance against all dictionary words … s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d by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dynamic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edit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proximate String Mat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914400" y="2819520"/>
            <a:ext cx="7467480" cy="38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(i,0)=E(0,i)=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)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if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=T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 = min{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),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)}+1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if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 -</a:t>
            </a:r>
            <a:fld id="{7E3E1EE4-C3F2-4A2C-9EE2-A300F2482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新細明體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gram overl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umerate all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s in the query string as well as in the lexic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 index (recall wild-card search) to retrieve all lexicon terms matching any of the quer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shold by number of match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nts – weight by keyboard layou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ld-card queries: 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on*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nd all docs containing words beginning with “mon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Prefix-search data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*m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words ending in “m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 an additional data structure for term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ckw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651240" y="5370480"/>
            <a:ext cx="7663680" cy="825480"/>
          </a:xfrm>
          <a:prstGeom prst="rect">
            <a:avLst/>
          </a:prstGeom>
          <a:solidFill>
            <a:srgbClr val="43708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ercise: from this, how can we enumerate all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eting the wild-card quer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pro*cent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ith trigr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text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ove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grams a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v, ove, vem, </a:t>
            </a:r>
            <a:r>
              <a:rPr b="0" i="1" lang="en-US" sz="2400" spc="-1" strike="noStrike">
                <a:solidFill>
                  <a:srgbClr val="0000ff"/>
                </a:solidFill>
                <a:latin typeface="Calibri"/>
              </a:rPr>
              <a:t>emb, mbe, b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ery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grams a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c, ece, cem, </a:t>
            </a:r>
            <a:r>
              <a:rPr b="0" i="1" lang="en-US" sz="2400" spc="-1" strike="noStrike">
                <a:solidFill>
                  <a:srgbClr val="0000ff"/>
                </a:solidFill>
                <a:latin typeface="Calibri"/>
              </a:rPr>
              <a:t>emb, mbe, b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3 trigrams overlap (of 6 in each te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we turn this into a normalized measure of overla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4572000" y="2057400"/>
            <a:ext cx="2286000" cy="144792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option – Jaccard coeffic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two sets; then the J.C.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s 1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the same elements and zero when they are dis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n’t have to be of the same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assigns a number between 0 and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threshold to decide if you have a 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if J.C. &gt; 0.8, declare a mat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2895480" y="22860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ching trigr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the query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o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we wish to identify words matching 2 of its 3 bigrams (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o, or, 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602720" y="3267000"/>
            <a:ext cx="44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602000" y="3800520"/>
            <a:ext cx="487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602720" y="4334040"/>
            <a:ext cx="48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2125800" y="34196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2125800" y="3952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2125800" y="4486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3359160" y="3276720"/>
            <a:ext cx="98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4716360" y="327672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6024600" y="3276720"/>
            <a:ext cx="90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slo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4737240" y="380988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6036120" y="3809880"/>
            <a:ext cx="121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orb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4812120" y="440064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6178320" y="4400640"/>
            <a:ext cx="81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20" name="AutoShape 17"/>
          <p:cNvCxnSpPr>
            <a:stCxn id="413" idx="3"/>
            <a:endCxn id="414" idx="1"/>
          </p:cNvCxnSpPr>
          <p:nvPr/>
        </p:nvCxnSpPr>
        <p:spPr>
          <a:xfrm>
            <a:off x="4349880" y="3509640"/>
            <a:ext cx="367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1" name="Text Box 18"/>
          <p:cNvSpPr/>
          <p:nvPr/>
        </p:nvSpPr>
        <p:spPr>
          <a:xfrm>
            <a:off x="3364200" y="380988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22" name="AutoShape 19"/>
          <p:cNvCxnSpPr>
            <a:stCxn id="421" idx="3"/>
            <a:endCxn id="416" idx="1"/>
          </p:cNvCxnSpPr>
          <p:nvPr/>
        </p:nvCxnSpPr>
        <p:spPr>
          <a:xfrm>
            <a:off x="4530600" y="4043160"/>
            <a:ext cx="20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AutoShape 20"/>
          <p:cNvCxnSpPr>
            <a:stCxn id="416" idx="3"/>
            <a:endCxn id="417" idx="1"/>
          </p:cNvCxnSpPr>
          <p:nvPr/>
        </p:nvCxnSpPr>
        <p:spPr>
          <a:xfrm>
            <a:off x="5597280" y="4043160"/>
            <a:ext cx="4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AutoShape 21"/>
          <p:cNvCxnSpPr>
            <a:stCxn id="418" idx="3"/>
            <a:endCxn id="419" idx="1"/>
          </p:cNvCxnSpPr>
          <p:nvPr/>
        </p:nvCxnSpPr>
        <p:spPr>
          <a:xfrm>
            <a:off x="5978520" y="4633560"/>
            <a:ext cx="192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22"/>
          <p:cNvCxnSpPr>
            <a:stCxn id="414" idx="3"/>
            <a:endCxn id="415" idx="1"/>
          </p:cNvCxnSpPr>
          <p:nvPr/>
        </p:nvCxnSpPr>
        <p:spPr>
          <a:xfrm>
            <a:off x="5576400" y="3509640"/>
            <a:ext cx="4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Text Box 23"/>
          <p:cNvSpPr/>
          <p:nvPr/>
        </p:nvSpPr>
        <p:spPr>
          <a:xfrm>
            <a:off x="3346200" y="4410000"/>
            <a:ext cx="114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r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27" name="AutoShape 24"/>
          <p:cNvCxnSpPr>
            <a:stCxn id="426" idx="3"/>
            <a:endCxn id="418" idx="1"/>
          </p:cNvCxnSpPr>
          <p:nvPr/>
        </p:nvCxnSpPr>
        <p:spPr>
          <a:xfrm flipV="1">
            <a:off x="4497480" y="4633560"/>
            <a:ext cx="2955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Rectangle 25"/>
          <p:cNvSpPr/>
          <p:nvPr/>
        </p:nvSpPr>
        <p:spPr>
          <a:xfrm>
            <a:off x="3200400" y="3200400"/>
            <a:ext cx="1295280" cy="609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26"/>
          <p:cNvSpPr/>
          <p:nvPr/>
        </p:nvSpPr>
        <p:spPr>
          <a:xfrm>
            <a:off x="3276720" y="4343400"/>
            <a:ext cx="1295280" cy="609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30" name="Group 27"/>
          <p:cNvGrpSpPr/>
          <p:nvPr/>
        </p:nvGrpSpPr>
        <p:grpSpPr>
          <a:xfrm>
            <a:off x="3276720" y="3733920"/>
            <a:ext cx="2743200" cy="1218960"/>
            <a:chOff x="3276720" y="3733920"/>
            <a:chExt cx="2743200" cy="1218960"/>
          </a:xfrm>
        </p:grpSpPr>
        <p:sp>
          <p:nvSpPr>
            <p:cNvPr id="431" name="Rectangle 28"/>
            <p:cNvSpPr/>
            <p:nvPr/>
          </p:nvSpPr>
          <p:spPr>
            <a:xfrm>
              <a:off x="3276720" y="3733920"/>
              <a:ext cx="1295280" cy="609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Rectangle 29"/>
            <p:cNvSpPr/>
            <p:nvPr/>
          </p:nvSpPr>
          <p:spPr>
            <a:xfrm>
              <a:off x="4724280" y="4343400"/>
              <a:ext cx="1295640" cy="609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33" name="Group 30"/>
          <p:cNvGrpSpPr/>
          <p:nvPr/>
        </p:nvGrpSpPr>
        <p:grpSpPr>
          <a:xfrm>
            <a:off x="4648320" y="3200400"/>
            <a:ext cx="1066680" cy="1143000"/>
            <a:chOff x="4648320" y="3200400"/>
            <a:chExt cx="1066680" cy="1143000"/>
          </a:xfrm>
        </p:grpSpPr>
        <p:sp>
          <p:nvSpPr>
            <p:cNvPr id="434" name="Rectangle 31"/>
            <p:cNvSpPr/>
            <p:nvPr/>
          </p:nvSpPr>
          <p:spPr>
            <a:xfrm>
              <a:off x="4648320" y="3200400"/>
              <a:ext cx="1066680" cy="609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4648320" y="3733920"/>
              <a:ext cx="1066680" cy="609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36" name="Rectangle 33"/>
          <p:cNvSpPr/>
          <p:nvPr/>
        </p:nvSpPr>
        <p:spPr>
          <a:xfrm>
            <a:off x="5943600" y="3733920"/>
            <a:ext cx="1371600" cy="609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6095880" y="4343400"/>
            <a:ext cx="990720" cy="609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5943600" y="3200400"/>
            <a:ext cx="1066680" cy="609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AutoShape 36"/>
          <p:cNvSpPr/>
          <p:nvPr/>
        </p:nvSpPr>
        <p:spPr>
          <a:xfrm>
            <a:off x="1110240" y="5275080"/>
            <a:ext cx="6662520" cy="688680"/>
          </a:xfrm>
          <a:prstGeom prst="upArrowCallout">
            <a:avLst>
              <a:gd name="adj1" fmla="val 241881"/>
              <a:gd name="adj2" fmla="val 241858"/>
              <a:gd name="adj3" fmla="val 16667"/>
              <a:gd name="adj4" fmla="val 66660"/>
            </a:avLst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tandard postings “merge” will enumerate 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TextBox 37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7292880" y="441000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42" name="AutoShape 19"/>
          <p:cNvCxnSpPr>
            <a:endCxn id="441" idx="1"/>
          </p:cNvCxnSpPr>
          <p:nvPr/>
        </p:nvCxnSpPr>
        <p:spPr>
          <a:xfrm flipV="1">
            <a:off x="7032240" y="4642920"/>
            <a:ext cx="2610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Rectangle 31"/>
          <p:cNvSpPr/>
          <p:nvPr/>
        </p:nvSpPr>
        <p:spPr>
          <a:xfrm>
            <a:off x="7238880" y="4343400"/>
            <a:ext cx="1067040" cy="609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xt-sensitive spell corr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xt: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 flew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rom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Heathrow to Nari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phrase query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flew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m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Heathrow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’d like to resp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 you mean “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lew from Heathr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no docs matched the query ph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xt-sensitive corr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ieve dictionary terms close (in weighted edit distance) to each query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all possible resulting phrases with one word “fixed”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lew from heathr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led form heath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lea form heath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it-based spelling correc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gest the alternative that has lots of h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of heuristics to expand a query into </a:t>
            </a:r>
            <a:r>
              <a:rPr b="0" lang="en-US" sz="2800" spc="-1" strike="noStrike">
                <a:solidFill>
                  <a:srgbClr val="00a000"/>
                </a:solidFill>
                <a:latin typeface="Calibri"/>
              </a:rPr>
              <a:t>phonet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quival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specific – mainly for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hebyshe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chebyche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nted for the U.S. census … in 19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 every token to be indexed into a 4-character reduced 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the same with query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and search an index on the reduced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when the query calls for a soundex mat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ain the first letter of the wor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all occurrences of the following letters to '0' (zero)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 'A', E', 'I', 'O', 'U', 'H', 'W', 'Y'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letters to digits as follow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, F, P, 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G, J, K, Q, S, X, Z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,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,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ndex continu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00"/>
              </a:spcBef>
              <a:buClr>
                <a:srgbClr val="437085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ll pairs of equal digits with one of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00"/>
              </a:spcBef>
              <a:buClr>
                <a:srgbClr val="437085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ll zeros from the resulting st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00"/>
              </a:spcBef>
              <a:buClr>
                <a:srgbClr val="437085"/>
              </a:buClr>
              <a:buFont typeface="Calibri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d the resulting string with trailing zeros and return the first four positions, which will be of the form &lt;uppercase letter&gt; &lt;digit&gt; &lt;digit&gt; &lt;digit&gt;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erm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comes H0650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65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* in the midd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*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ould look up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*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intersect the two 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*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il*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y result in many Boole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u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lution: transform wild-card queries so that the *’s occur at the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gives rise to the </a:t>
            </a:r>
            <a:r>
              <a:rPr b="1" lang="en-US" sz="2800" spc="-1" strike="noStrike">
                <a:solidFill>
                  <a:srgbClr val="00a000"/>
                </a:solidFill>
                <a:latin typeface="Calibri"/>
              </a:rPr>
              <a:t>Permute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d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ex is the classic algorithm, provided by most databases (Oracle, Microsoft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useful is sounde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very – for information retri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kay for “high recall” tasks (e.g., Interpol), though biased to names of certain nationa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queries can we proces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onal inverted index with skip poin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d-card 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ll-cor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muterm i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er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dex un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ello$, ello$h, llo$he, lo$hel, o$h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$ is a special symb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lookup 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$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*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up on   $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X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up 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$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X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lookup on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*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kup 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$X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*Y*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??? Exercis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muterm query process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tate query wild-card to the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*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Q$P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use prefix-search data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rmuterm probl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≈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quadruples lexicon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1028"/>
          <p:cNvSpPr/>
          <p:nvPr/>
        </p:nvSpPr>
        <p:spPr>
          <a:xfrm>
            <a:off x="2841480" y="3522600"/>
            <a:ext cx="4984560" cy="688680"/>
          </a:xfrm>
          <a:prstGeom prst="upArrowCallout">
            <a:avLst>
              <a:gd name="adj1" fmla="val 180963"/>
              <a:gd name="adj2" fmla="val 180946"/>
              <a:gd name="adj3" fmla="val 16667"/>
              <a:gd name="adj4" fmla="val 66660"/>
            </a:avLst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mpirical observation for English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gram index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 index find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r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sed on a query consisting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s (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254960" y="3657600"/>
            <a:ext cx="635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252800" y="4191120"/>
            <a:ext cx="5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2057400" y="38098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2057400" y="4343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3312720" y="3657600"/>
            <a:ext cx="118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263240" y="3038400"/>
            <a:ext cx="6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2057400" y="3200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3291120" y="3038400"/>
            <a:ext cx="95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298320" y="4257720"/>
            <a:ext cx="118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4896360" y="3657600"/>
            <a:ext cx="146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0" name="AutoShape 13"/>
          <p:cNvCxnSpPr>
            <a:stCxn id="344" idx="3"/>
            <a:endCxn id="349" idx="1"/>
          </p:cNvCxnSpPr>
          <p:nvPr/>
        </p:nvCxnSpPr>
        <p:spPr>
          <a:xfrm>
            <a:off x="4509720" y="389052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Text Box 14"/>
          <p:cNvSpPr/>
          <p:nvPr/>
        </p:nvSpPr>
        <p:spPr>
          <a:xfrm>
            <a:off x="4724280" y="3038400"/>
            <a:ext cx="1354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add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2" name="AutoShape 15"/>
          <p:cNvCxnSpPr>
            <a:stCxn id="347" idx="3"/>
            <a:endCxn id="351" idx="1"/>
          </p:cNvCxnSpPr>
          <p:nvPr/>
        </p:nvCxnSpPr>
        <p:spPr>
          <a:xfrm>
            <a:off x="4254120" y="327132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Line 16"/>
          <p:cNvSpPr/>
          <p:nvPr/>
        </p:nvSpPr>
        <p:spPr>
          <a:xfrm>
            <a:off x="609588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Line 17"/>
          <p:cNvSpPr/>
          <p:nvPr/>
        </p:nvSpPr>
        <p:spPr>
          <a:xfrm>
            <a:off x="64008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Line 18"/>
          <p:cNvSpPr/>
          <p:nvPr/>
        </p:nvSpPr>
        <p:spPr>
          <a:xfrm>
            <a:off x="60958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4896000" y="4257720"/>
            <a:ext cx="1218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roun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7" name="AutoShape 20"/>
          <p:cNvCxnSpPr>
            <a:stCxn id="348" idx="3"/>
            <a:endCxn id="356" idx="1"/>
          </p:cNvCxnSpPr>
          <p:nvPr/>
        </p:nvCxnSpPr>
        <p:spPr>
          <a:xfrm>
            <a:off x="4495680" y="4490640"/>
            <a:ext cx="388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TextBox 21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cessing wild-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on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now be run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$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m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s terms that match AND version of our wildcard que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e’d enumerat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o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post-filter these terms against que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, space efficient (compared to permuter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LLING CORR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 corr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principal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cting document(s) being index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cting user queries to retrieve “right”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ain flav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lated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 each word on its own for misspel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not catch typos resulting in correctly spelled w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-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ok at surrounding word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 flew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orm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Heathrow to Nari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46Z</dcterms:created>
  <dc:creator>Christopher Manning</dc:creator>
  <dc:description/>
  <dc:language>en-US</dc:language>
  <cp:lastModifiedBy>Lenovo User</cp:lastModifiedBy>
  <cp:lastPrinted>2009-09-27T15:38:04Z</cp:lastPrinted>
  <dcterms:modified xsi:type="dcterms:W3CDTF">2010-11-18T10:07:31Z</dcterms:modified>
  <cp:revision>361</cp:revision>
  <dc:subject/>
  <dc:title>Title</dc:title>
</cp:coreProperties>
</file>